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147-8C08-4EAD-B82B-A0020EFD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459-8967-4B13-A9FD-E469D47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07F-B745-4236-91E1-B7BB162C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F50-45C6-4988-81DA-42A994BC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232A-1452-4C40-8085-090121EE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8D35-8568-41CC-B815-92DF5DFB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719C-0302-40CC-BF42-4F023CDD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F5D-1C97-47D9-AF54-B4CB5BA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603-B43B-4D18-9C70-D0A693E3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0879-DBBC-435C-B6BE-E99C74D3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37D-B618-4992-A0EE-AB867298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61D-FCD4-4BD9-B4A6-2F71D7C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9FD2-536D-457C-B4AE-EF27112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726D-A8B6-4A40-8A96-6266A3D7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E23E-3789-47AC-B532-62C228B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4BAC-47C1-4D81-8E43-A430E42B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302-95EB-4C9F-A842-9D95834B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16E-1D89-478F-A069-7F6BA2D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311-7BD4-44F4-A82F-2D8E5B80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D9C-DF26-469F-9230-65A09612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169-DA80-4883-9B2E-69D269AC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B1D-80BE-4775-B113-E9EC273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26F-5AA8-455A-9BFE-17E1135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020-F2B2-419B-9D3C-DD05D75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AF6-057B-402D-BAFD-AA1303D32C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1971-3A8D-4941-85AA-0EC095D91D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Knochen der Vordergliedmas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Scap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ume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Radius / Ul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arpalkno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etakarpalkno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Zehenglie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Sesambe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Verdana"/>
              </a:rPr>
              <a:t>allgemein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3 Phalangen / Ze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 2 proximale Sesambeine / Ze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 1 distales Sesambein / Ze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Numerierung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(Zehen, Gefässe, Nerven)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med → l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N.B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Ordnungszahl + Anzahl der Zehe(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≠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Ordnungszahl + Anzahl der Phala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≠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Ordnungszahl + Anzahl der Metakarpalknoch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73200" y="4935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Vordergliedmas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907920"/>
          <a:ext cx="8686800" cy="2406960"/>
        </p:xfrm>
        <a:graphic>
          <a:graphicData uri="http://schemas.openxmlformats.org/drawingml/2006/table">
            <a:tbl>
              <a:tblPr/>
              <a:tblGrid>
                <a:gridCol w="2808000"/>
                <a:gridCol w="2981520"/>
                <a:gridCol w="2897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zahl / Ordnungszah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fe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e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/ 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(5) / 2.-5.</a:t>
                      </a:r>
                      <a:br>
                        <a:rPr sz="2800"/>
                      </a:b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(+1.?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/ 2.-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/ 1.-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4000" y="3573360"/>
          <a:ext cx="8638560" cy="2973600"/>
        </p:xfrm>
        <a:graphic>
          <a:graphicData uri="http://schemas.openxmlformats.org/drawingml/2006/table">
            <a:tbl>
              <a:tblPr/>
              <a:tblGrid>
                <a:gridCol w="2759400"/>
                <a:gridCol w="2999520"/>
                <a:gridCol w="287964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zahl / Ordnungszah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d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w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e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/ 2.-5. Haupt: 3.+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/ 2.-5. Haupt: 3.+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/ 3.-5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3.+4.verschmolze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/ 2.-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3120" y="189000"/>
            <a:ext cx="8535960" cy="647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1280" y="260280"/>
            <a:ext cx="8964720" cy="63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155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Pf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c 3 (Hauptmittelfussknochen)</a:t>
            </a:r>
            <a:br>
              <a:rPr sz="32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+ Mc 2, Mc 4 = Griffelbe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+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2 prox. Sesambe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metacarpophalangea, Fesselgele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prox. (Os compedale, P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interphalangea prox., Krongele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media (Os coronale, P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+ 1 dist. Sesambein </a:t>
            </a:r>
            <a:br>
              <a:rPr sz="3200"/>
            </a:b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interphalangea dist., Hufgele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dist. (Os ungulare, P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ungulare, P3, Phalanx distalis, Hufb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palmaris lat. + med. (prox + dist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extensori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solearis, Foramen sole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Planum cutane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Linea semiluna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flexo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parietali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ed &gt; lat, R/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ulcus parietalis lat. + m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articular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coronale, P2, Phalanx media, Kronb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asis: prox., caput: d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extensorius (dors., prox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uberositas flexoria (palm., prox.)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(=Kronbeinleh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distales Sesambei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(Strahlbein, Os naviculare) </a:t>
            </a:r>
            <a:br>
              <a:rPr sz="28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flexoria + articula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argo prox. + di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compedale, P1, Phalanx prox., Fesselb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asis: prox., caput: d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rigonum phalangis prox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palmar,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itz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→ dist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2 Ossa sesamoidea pr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(Gleichbe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articularis, flexoria + inteross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itz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→ prox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16:43Z</dcterms:created>
  <dc:creator>Gerics Balázs</dc:creator>
  <dc:description/>
  <dc:language>en-US</dc:language>
  <cp:lastModifiedBy>Gerics Balázs</cp:lastModifiedBy>
  <dcterms:modified xsi:type="dcterms:W3CDTF">2009-09-14T06:50:04Z</dcterms:modified>
  <cp:revision>10</cp:revision>
  <dc:subject/>
  <dc:title>Bones of the forelimb</dc:title>
</cp:coreProperties>
</file>