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33A1-5C01-44E3-B7E0-E907C76AC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B004-BCCC-42E8-9C72-7B55F786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801E-70D8-4D2E-8E43-BCB6BB1AF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FDE8-CB6D-4420-9EFB-AC590122B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F65E-4EF2-4FA1-B3CF-D97276888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23CB-C52F-4E7C-9019-F385330F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8A80-862B-47D1-A51F-45B4FDA0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FEF6-5D0E-4143-BE2A-41B14F26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778B-2B0B-48C4-86B1-CB6C08BC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C83A-3C91-446B-938A-E7534794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CC41-EB98-4953-9FA1-9F97E6CD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C31C-13B7-431D-8423-506AB59F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770B-D5E1-4712-856D-4443E133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ABFC-E565-47B9-A7EB-17E4BB36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604E-5F33-41FA-833F-B6A08AA7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6984-7193-4568-95AA-95D5542C5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A5EC-E910-4AA4-9FDA-CBE9B35B2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2E1A-0EE9-4F45-B5D5-E31EA347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88FE-4FF1-419F-8957-1CE9153B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86FD-F558-438A-A0C0-A508A55B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C143-DF49-4C18-9A81-2175ECD9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137F-2920-41C4-8FA7-EC7B01C4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53DE-BAF3-492A-AF6B-CD6C23E9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52A7-EFEB-4CB5-85F8-29B9807C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BEF9-AF57-4F3F-A121-72ABCEFA58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EBB6-52B6-4438-8555-F44AEED5171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91440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Car – carnivora (Fleischfress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  <a:ea typeface="Arial"/>
              </a:rPr>
              <a:t>ca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  <a:ea typeface="Arial"/>
              </a:rPr>
              <a:t> – canis familiaris (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  <a:ea typeface="Arial"/>
              </a:rPr>
              <a:t>Hund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  <a:ea typeface="Arial"/>
              </a:rPr>
              <a:t>fe – felis catus (Katz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Un – ungulates (Huftie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  <a:ea typeface="Arial"/>
              </a:rPr>
              <a:t>eq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  <a:ea typeface="Arial"/>
              </a:rPr>
              <a:t> – equus caballus (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  <a:ea typeface="Arial"/>
              </a:rPr>
              <a:t>Pferd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  <a:ea typeface="Arial"/>
              </a:rPr>
              <a:t>ru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  <a:ea typeface="Arial"/>
              </a:rPr>
              <a:t> - ruminantia (Wiederkäue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  <a:ea typeface="Arial"/>
              </a:rPr>
              <a:t>su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  <a:ea typeface="Arial"/>
              </a:rPr>
              <a:t> – sus scrofa domestica (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  <a:ea typeface="Arial"/>
              </a:rPr>
              <a:t>Schwein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          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Regio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mentalis (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Kin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mandibular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9933"/>
                </a:solidFill>
                <a:latin typeface="Tahoma"/>
              </a:rPr>
              <a:t>in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dibularis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(Kehlga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 sub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oide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Zungenbei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2733840" cy="62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950000" y="48002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o parotide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parotis – </a:t>
            </a:r>
            <a:r>
              <a:rPr b="0" lang="en-US" sz="2800" spc="-1" strike="noStrike">
                <a:solidFill>
                  <a:srgbClr val="ff9933"/>
                </a:solidFill>
                <a:latin typeface="Tahoma"/>
              </a:rPr>
              <a:t>par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oti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ssa </a:t>
            </a:r>
            <a:r>
              <a:rPr b="0" lang="en-US" sz="2800" spc="-1" strike="noStrike">
                <a:solidFill>
                  <a:srgbClr val="ff9933"/>
                </a:solidFill>
                <a:latin typeface="Tahoma"/>
              </a:rPr>
              <a:t>retr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dibular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5410440" cy="452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-152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Tahoma"/>
              </a:rPr>
              <a:t>Richtunge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301680" y="1066680"/>
          <a:ext cx="8842320" cy="5665680"/>
        </p:xfrm>
        <a:graphic>
          <a:graphicData uri="http://schemas.openxmlformats.org/drawingml/2006/table">
            <a:tbl>
              <a:tblPr/>
              <a:tblGrid>
                <a:gridCol w="3162240"/>
                <a:gridCol w="5680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Richtung z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orsal / ventr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cken (dorsum) / Bauch (venter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ranial / caud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opf (cranium) / Schwanz (caud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dial / later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tte / „Aussen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rostral, apical, or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Rüsselscheibe (Rostrum), (Nasen)Spitze (Apex), Mund / Maul (O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</a:rPr>
                        <a:t>anti</a:t>
                      </a:r>
                      <a:r>
                        <a:rPr b="0" lang="hu-HU" sz="2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apical, </a:t>
                      </a:r>
                      <a:r>
                        <a:rPr b="0" lang="hu-HU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</a:rPr>
                        <a:t>ab</a:t>
                      </a:r>
                      <a:r>
                        <a:rPr b="0" lang="hu-HU" sz="2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or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Entgegengesätzte Richtu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ximal / dis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umeist an den Gliedmass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orsal / palmar (VE), plantar (H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cken / Handfläche, Sohl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194000" cy="449892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8385120" cy="587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194000" cy="449892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380880" y="101520"/>
            <a:ext cx="8305920" cy="675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09520" y="304560"/>
            <a:ext cx="5334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las/C1 (+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Flüge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apu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gio </a:t>
            </a: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pra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apularis, </a:t>
            </a: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int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apularis (dors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, Widerri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ina scapul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umer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gio brach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dius + Ul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gio antebrach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pus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(mehrere kleine Knoch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acarpus (Mc 3 +2/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452760" cy="57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7760" y="1599840"/>
            <a:ext cx="60958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pus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 (mehrere kleine Knoch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acarp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c 3 – 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Hauptmittelfussknoch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c 2(med) + 4(lat) – 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Griffelbe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alanx prox., I., os compedale,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Fesselbe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alanx medii, II., os coronale,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Kronbe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alanx dist., III., os ungulare,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Hufbe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247824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5840" y="304920"/>
            <a:ext cx="52578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ber coxa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ber ischiadic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m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ochan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ticulatio genus (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Kni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g. patellaris + Reg. poplit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bia + Fibula (Reg. cruri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rsus 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(mehrere kleine Knoch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lcaneus + 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nder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Tendo calcaneus communis (Achilli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atarsus (3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r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 2/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alanx prox., med.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is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291960" y="380880"/>
            <a:ext cx="3341880" cy="616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194000" cy="44989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3124080" y="0"/>
            <a:ext cx="553896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Regio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950000" y="2282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frontalis, parietalis, occipitalis, temporalis, auricularis, oralis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masseter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mentalis (chi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supr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and </a:t>
            </a: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infr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bital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palpebra </a:t>
            </a:r>
            <a:r>
              <a:rPr b="0" lang="en-US" sz="2800" spc="-1" strike="noStrike">
                <a:solidFill>
                  <a:srgbClr val="ff9933"/>
                </a:solidFill>
                <a:latin typeface="Tahoma"/>
              </a:rPr>
              <a:t>inferio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labialis </a:t>
            </a:r>
            <a:r>
              <a:rPr b="0" lang="en-US" sz="2800" spc="-1" strike="noStrike">
                <a:solidFill>
                  <a:srgbClr val="ff9933"/>
                </a:solidFill>
                <a:latin typeface="Tahoma"/>
              </a:rPr>
              <a:t>super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mandibular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articulationi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empor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dibular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0" y="949320"/>
            <a:ext cx="4776840" cy="590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3T19:05:10Z</dcterms:created>
  <dc:creator>bgerics</dc:creator>
  <dc:description/>
  <dc:language>en-US</dc:language>
  <cp:lastModifiedBy>Gerics Balázs</cp:lastModifiedBy>
  <dcterms:modified xsi:type="dcterms:W3CDTF">2009-09-14T06:31:20Z</dcterms:modified>
  <cp:revision>16</cp:revision>
  <dc:subject/>
  <dc:title>1. 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