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5AE-4CFC-4AEC-BD47-372D57AF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008-958A-4028-95B0-CEF1F773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FEF-4C29-4CF2-B595-1F837F59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1AA-54E1-4B33-83A2-25A71E01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B40-105C-43A4-BFD9-CF317DAE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EB31-ECE7-45D3-8847-0FD48079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F4A5-5A92-417F-906D-9EAEDC57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3B70-E75B-4CC9-BC3B-458C4D9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693D-83AC-4312-A9D1-3B2C14F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A58F-A0E2-4186-A0D5-69A9B22E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B24D-0D3E-40E2-9E1E-D6676169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241-0B5A-48F8-94CF-AB937DBB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E518-BFDF-4DFF-B891-B3EDB40D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A94D-0D3B-49F3-B402-4916140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9211-6215-43A9-B50E-E3AD434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7E2A-FBFC-4E18-A90F-D201C893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C767-FDF8-407C-A841-B432F88B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151-87FD-44B2-8AC4-C0D23670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7A6-FEE2-4ABF-B902-A2B90165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7B2-63A9-47AC-92B0-C8FCDEC4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DDE-C283-47FB-9F54-013CDFE3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C7C-0E57-4FEF-9CCC-1105009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6A5-4E51-4FB3-A630-6807E1D6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68B-0D4A-42D1-95AA-3F1A2BDE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7D66-B07D-4AD0-9125-B993E5B07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BD9D-6BD5-4950-8BF2-F10C126E4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eec94"/>
                </a:solidFill>
                <a:latin typeface="Times New Roman"/>
              </a:rPr>
              <a:t>Schädel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Neuro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ranium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I. </a:t>
            </a: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Viscero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ranium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eec94"/>
                </a:solidFill>
                <a:latin typeface="Times New Roman"/>
              </a:rPr>
              <a:t>Schä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ventral</a:t>
            </a:r>
            <a:r>
              <a:rPr b="1" lang="hu-HU" sz="2800" spc="-1" strike="noStrike">
                <a:solidFill>
                  <a:srgbClr val="feec94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eec94"/>
                </a:solidFill>
                <a:latin typeface="Times New Roman"/>
              </a:rPr>
              <a:t>Fläch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mag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nervi hypoglo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jugulare (= for. lacerum abor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.: for. lacerum (or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.:  incisura carotica (lat. + med.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. ov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.:     inc. spino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alare caud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retroarticul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stylomastoid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I. Viscerocrani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tus nasi dors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mina cribrosa (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ulbus olfactor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tus nasi medius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nus paranasales (eq – 1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st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tus nasi ventr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ynx (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ynx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ch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tus nasi communi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(neben Septum na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bi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sacci lacrimalis (rostr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asenhöh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glandulae lacrimalis (“lat.”,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ber innerhalb d. 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bi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musculi obliqui ventr. (mediovent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vea trochlearis (mediodors., f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obliquus dors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, Sus: ligamentum orbit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rcus zygomati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s temporale, proc. zygomati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s zygomaticum, proc. tempor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s frontale, proc. zygomati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a, Sus: Lig. orbi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ossa pterygopalatin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2781360"/>
          <a:ext cx="7251120" cy="2074320"/>
        </p:xfrm>
        <a:graphic>
          <a:graphicData uri="http://schemas.openxmlformats.org/drawingml/2006/table">
            <a:tbl>
              <a:tblPr/>
              <a:tblGrid>
                <a:gridCol w="3666240"/>
                <a:gridCol w="35848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maxill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infraorbit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sphenopalatin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vum na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</a:t>
                      </a: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alatinum cau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</a:t>
                      </a: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alatinum maj</a:t>
                      </a: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124080" y="198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aud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rost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alatum durum (har</a:t>
            </a:r>
            <a:r>
              <a:rPr b="1" lang="hu-HU" sz="2800" spc="-1" strike="noStrike">
                <a:solidFill>
                  <a:srgbClr val="feec94"/>
                </a:solidFill>
                <a:latin typeface="Times New Roman"/>
              </a:rPr>
              <a:t>ter Gaumen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palatinum, lamina horizont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lla, proc. palati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incisivum, proc. palati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o interalveolaris (= diaste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eveol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veolaria (= interradicula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.: foramen interincisiva (Ca, E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ssura interincisiva (Ru, S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ndibul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.: fossa masseterica, rostr.: for. men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.: fossa pterygoidea, caud.: for. mandibul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es lingualis / fac. labialis + fac. bucca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interspec. diff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o ventr. –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us mandibul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: tuberositas musculi sternomandibula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: proc. angularis (caudovetr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. Neurocrani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a cranii cauda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Times New Roman"/>
              </a:rPr>
              <a:t>Tentorium cerebelli os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a cranii me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Times New Roman"/>
              </a:rPr>
              <a:t>Crista orbitosphenoida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a cranii rostra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ssa cranii caudalis</a:t>
            </a:r>
            <a:br>
              <a:rPr sz="4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nner</a:t>
            </a: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(</a:t>
            </a: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Gehirn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) </a:t>
            </a: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Fläch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 medullaris – sa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ulla oblongata (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ehirn - Rückenm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 pontina – transver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ns –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rüc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rs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 vermialis - sa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Wur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m Kleinhi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n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rium cerebelli oss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ssa cranii med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hypophysealis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lla turc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lcus nervi oph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mici (med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lcus nervi maxillaris (la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pina ossis sphenoid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a piriform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es digitatae (imp. gyror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., medi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lcus chiasmatis (sulcus nervi optic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ssa cranii rostral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.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rista orbitosphenoid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.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amina cribro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asenhöh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x fossa ethmoidalis (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ulbus olfactorius, Riechkolb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. ethmoid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es digitatae (imp. gyror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ostrum (ossis sphen.), crista galli, crista sagittalis inte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Fossa pterygopalatina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dors. </a:t>
            </a:r>
            <a:r>
              <a:rPr b="1" lang="en-US" sz="2400" spc="-1" strike="noStrike">
                <a:solidFill>
                  <a:srgbClr val="feec94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ventr.</a:t>
            </a:r>
            <a:br>
              <a:rPr sz="2400"/>
            </a:b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rostr. </a:t>
            </a:r>
            <a:r>
              <a:rPr b="1" lang="en-US" sz="2400" spc="-1" strike="noStrike">
                <a:solidFill>
                  <a:srgbClr val="feec94"/>
                </a:solidFill>
                <a:latin typeface="Wingdings"/>
                <a:ea typeface="Wingdings"/>
              </a:rPr>
              <a:t></a:t>
            </a:r>
            <a:r>
              <a:rPr b="1" lang="hu-HU" sz="2400" spc="-1" strike="noStrike">
                <a:solidFill>
                  <a:srgbClr val="feec94"/>
                </a:solidFill>
                <a:latin typeface="Times New Roman"/>
              </a:rPr>
              <a:t> caud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1280" y="1628640"/>
          <a:ext cx="6705360" cy="2286000"/>
        </p:xfrm>
        <a:graphic>
          <a:graphicData uri="http://schemas.openxmlformats.org/drawingml/2006/table">
            <a:tbl>
              <a:tblPr/>
              <a:tblGrid>
                <a:gridCol w="3276360"/>
                <a:gridCol w="3429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ethmoid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ethmoid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amen optic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cus chiasmat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ssura orbital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cus n. ophthalmic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amen rotundum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alare rostr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cus n. maxillaris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. alare caud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584360" y="3846600"/>
            <a:ext cx="573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84360" y="3618000"/>
            <a:ext cx="611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680" y="4292640"/>
            <a:ext cx="451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u+ Sus: For. orbitorotund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q: For. alare parvum – do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a: 2x For. ethmoid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temporale: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quama ossis temporale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(Schuppe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s petrosum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(Felsenbe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petrosu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 tympan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 petro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 masto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. muscularis (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ünne „Nadel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. styloideus (f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r das Zungenbe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c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Ca, S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ent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u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m Felsenbe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us acusticus exter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 mastoidea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ie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oventral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erichtet s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.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culari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. styloid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s petrosum, med. </a:t>
            </a:r>
            <a:r>
              <a:rPr b="1" lang="hu-HU" sz="3200" spc="-1" strike="noStrike">
                <a:solidFill>
                  <a:srgbClr val="feec94"/>
                </a:solidFill>
                <a:latin typeface="Times New Roman"/>
              </a:rPr>
              <a:t>Ansicht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us acusticus intern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at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undus (4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Öffnun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odors.: area n. facialis (introitus canalis n. VI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oventr.: area cochle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odors.: for. vestibulare d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oventr.: for. vestibulare vent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., dors.: apertura externa aquaeductus vestibu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. ventr.: apertura externa canalic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 cochle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tr., dors.: fovea ganglii semilunaris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v. ganglii nervi trigem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0:58:50Z</dcterms:created>
  <dc:creator>Gerics Balázs</dc:creator>
  <dc:description/>
  <dc:language>en-US</dc:language>
  <cp:lastModifiedBy>Gerics Balázs</cp:lastModifiedBy>
  <dcterms:modified xsi:type="dcterms:W3CDTF">2009-10-12T09:28:17Z</dcterms:modified>
  <cp:revision>3</cp:revision>
  <dc:subject/>
  <dc:title>Schädel  I. Neurocranium II. Viscerocranium</dc:title>
</cp:coreProperties>
</file>