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970-4EB6-47F1-A541-30EA29D9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5E0-5DB4-4F78-96D4-89289419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3C5-158A-409D-A9A6-D92D1912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DFF-ED69-4F18-B748-7635EC6A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1DEF-3FC2-497B-BD6F-D6E2B73F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1E2D-A897-445A-B5BA-38BE54A2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D6F7-D3E6-47A6-8A3D-C7C292B9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C4F6-8F3B-4BA9-B9C3-6A15FE8E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677A-D103-44C5-91CC-909595F8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7AD9-AA6E-40D7-A193-1D3AFF28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BDE5-C1D4-4547-9771-BCF3A668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9A4-B2D8-4D43-9FF9-93D3DE7D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DBDB-F05C-4580-8C70-9AC0CC7E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7541-95A7-43AF-9EF8-44AA1844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3B4E-AD95-4EE1-9D24-52B19972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15E4-D24E-4EEB-A02C-DEF91224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72A8-51CF-4A31-A369-11F7D262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7F89-61D0-4571-8CD0-18430143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D41-C07E-4EB3-AB0D-3351CD56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511-0CCE-42FA-B529-B04877B6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561-C0E1-470C-B8AB-FAB0FD46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32A-F9B5-4CD9-9D3D-C818325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44D-F49C-4847-B73F-5C1610D2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222-C44C-4490-9E59-41669CE5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BF0E-14F4-4EDE-8477-162D5DAD9FB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A5E8-7262-460C-A05A-61BC4E8BB63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Beckengürtel = 2x Hüftbein, Os coxa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Hüftbein = Os ilium (Darmbein) + Os pubis (Schambein) + Os ischii (Sitzbein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eaeaea"/>
                </a:solidFill>
                <a:latin typeface="Verdana"/>
              </a:rPr>
              <a:t>Tierartl. Diff.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Allg. Form, Beckenbod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Crista iliaca (Ca: konvex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Richtung der Ala iliaca / Facies auriculari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Tuber ischiadicum (Ru 3x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Acetabulum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(Ru: Facies lunata mit Pars major + mino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Femur, Os femoris, Oberschenkelbei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936360"/>
            <a:ext cx="878508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dist., lat.: </a:t>
            </a:r>
            <a:br>
              <a:rPr sz="28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Fossa extensoria (cran.), Fossa m. poplitei (caud.)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eaeaea"/>
                </a:solidFill>
                <a:latin typeface="Verdana"/>
              </a:rPr>
              <a:t>Tierartl. Diff., R/L?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rochanter tertius (nur Eq, lat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rochanter maj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Eq: Pars cran. + Pars caud. (höhe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Crista intertrochanterica, Fossa trochanterica (caud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uberculum trochleae ossis femori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Eq (+Ru): med., cran., Patellarschlaufe: „Stehvermögen”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Facies articularis </a:t>
            </a:r>
            <a:r>
              <a:rPr b="0" lang="hu-HU" sz="2400" spc="-1" strike="noStrike">
                <a:solidFill>
                  <a:srgbClr val="eec85e"/>
                </a:solidFill>
                <a:latin typeface="Verdana"/>
              </a:rPr>
              <a:t>sesamoidea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 (Ca, caud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rochlea ossis femoris – cra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Kniescheibe, Patell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Basis – prox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pex – dis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Proc. cartilagineus (Eq, bo): m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Schienbein, Tib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7920" y="1052640"/>
            <a:ext cx="86868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prox.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Condylus lat. + Facies articularis fibularis / Proc. (Ru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Eminentia intercondylaris = 2x Tuberculum intercon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Area intercond. cran. (2x), centralis, caud. 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Ansatzstellen für Menisken + Kreuzbänd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uberositas tibiae (CRAN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Sulcus extensorius 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uberositas tibiae – Condylus LA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Crista tibiae: CRAN., prox.: la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dist.: Cochlea tibia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Ru: Os malleolare lat. („Fibula”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Sprunggelenk, Tars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krurale + intertarsale + metatarsale Reih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Calcaneus, Fersenbein</a:t>
            </a:r>
            <a:br>
              <a:rPr sz="28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uber calcanei (LAT), Proc. coracoideus,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Sustentaculum </a:t>
            </a:r>
            <a:r>
              <a:rPr b="0" i="1" lang="hu-HU" sz="2400" spc="-1" strike="noStrike" u="sng">
                <a:solidFill>
                  <a:srgbClr val="eaeaea"/>
                </a:solidFill>
                <a:uFillTx/>
                <a:latin typeface="Verdana"/>
              </a:rPr>
              <a:t>tali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 (plantar,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  <a:ea typeface="Arial"/>
              </a:rPr>
              <a:t>→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MED) 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(Sulcus tendinis m. flex. dig. lat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Talus, Sprungbe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Caput, Collum, Corpus, Trochlea (Ru: prox. + dist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Sinus tarsi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– zwischen Talus and Calcaneus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(Synovia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Canalis tarsi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– zwischen T3, T4 und Tc (Gefäss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4:43:35Z</dcterms:created>
  <dc:creator>Gerics Balázs</dc:creator>
  <dc:description/>
  <dc:language>en-US</dc:language>
  <cp:lastModifiedBy>Gerics Balázs</cp:lastModifiedBy>
  <dcterms:modified xsi:type="dcterms:W3CDTF">2009-09-28T08:21:07Z</dcterms:modified>
  <cp:revision>11</cp:revision>
  <dc:subject/>
  <dc:title>Slide 1</dc:title>
</cp:coreProperties>
</file>