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BBE6-1693-4F9D-BE0A-9AFC05025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9ADB-85E4-46CE-9265-8A6A7787E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7A0C-92D9-4C5E-87C8-807D371CA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6A74-91B0-47C2-B705-62E4CC178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81191-21EE-4D0C-A932-3B38311EA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6C09F-BCD5-4FB6-B56F-0E1CF6369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0DE7B-DB82-4715-B59C-22705094A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2AD3A-DC23-4FE3-8BD5-580DA5E8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31051-EDC3-4D7E-A38F-89A447B6C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10500-FEEE-4561-930B-720B514DB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EFE39-EDF1-4A6B-B956-0A274205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2C48-FFFD-459F-BDF9-D7D7C58EB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59B0D-9615-4E04-80D1-CE8BB7AF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74BB5-663E-4C8C-B034-2BDCF5F2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0C3CF-7F15-46E5-B8CC-47C4FC2FC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599E2-6FB9-40E8-9827-BBE24B406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D65F0-2B17-4F6A-9C7B-6CE1D4A19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EE27-239A-4D85-957C-53D06BA53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7C1F-8B12-473B-87A4-7009EC44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C554-B272-4763-9031-08228350C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5B0F-6E69-4AEB-9C0C-8A235E21E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0B45-0F54-4164-9B90-E65306D8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65F7-DF44-48EF-8F80-40BC927E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55A3-276B-4317-9FEF-53E2887C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FF437-1F1D-4E27-A3E8-7FABD590BC7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3A6B3-BA74-4610-BD92-AECB512C179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dbbd71"/>
                </a:solidFill>
                <a:latin typeface="Arial"/>
              </a:rPr>
              <a:t>Wirbel / </a:t>
            </a: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Vertebrae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Körp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corpu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tremitas cran. (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vex) &amp; caud. (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v) 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cus intervertebralis,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KEIN Synovialgelenk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Boge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arcu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: 2x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diculus +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mi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RSAL! –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ent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ieru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isura cran. + caud.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amen intervertebra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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. vertebrale laterale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Fortsätz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processu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c. spinosus, transversus, articular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c. ma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llaris (+cran. artic.), accessori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dbbd71"/>
                </a:solidFill>
                <a:latin typeface="Arial"/>
              </a:rPr>
              <a:t>Halswirbel, </a:t>
            </a: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vertebrae cervical</a:t>
            </a:r>
            <a:r>
              <a:rPr b="0" lang="hu-HU" sz="3200" spc="-1" strike="noStrike">
                <a:solidFill>
                  <a:srgbClr val="dbbd71"/>
                </a:solidFill>
                <a:latin typeface="Arial"/>
              </a:rPr>
              <a:t>es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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Beweglichke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Körper stark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vex + 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Gelenkflächen sehr gro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proc. transv.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uberculum dors. + vent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for. transversarium? (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nur Halswirbe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dbbd71"/>
                </a:solidFill>
                <a:latin typeface="Arial"/>
              </a:rPr>
              <a:t>Halswirbel</a:t>
            </a: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, C1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1 –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las,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Nickbewegu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Körp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massa lat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proc. transv.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Flüge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ala atlanti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,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kei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roc. articularis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roc. spinosus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ubercul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an.: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tiefe Aushöhlung für de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dylus occipital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ntral: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usbuchtung =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ssa alar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Löcher -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amina (</a:t>
            </a:r>
            <a:r>
              <a:rPr b="0" lang="hu-HU" sz="2800" spc="-1" strike="noStrike">
                <a:solidFill>
                  <a:srgbClr val="3366ff"/>
                </a:solidFill>
                <a:latin typeface="Tahoma"/>
              </a:rPr>
              <a:t>tierartliche Unterschied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. alare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fossa alar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. vertebrale lat. (MED!)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analis vertebral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. transversarium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durchboh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roc. transv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dbbd71"/>
                </a:solidFill>
                <a:latin typeface="Arial"/>
              </a:rPr>
              <a:t>Halswirbel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2 –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is,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Drehbewegu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an.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usläuf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ens axis </a:t>
            </a:r>
            <a:r>
              <a:rPr b="0" i="1" lang="hu-HU" sz="2800" spc="-1" strike="noStrike">
                <a:solidFill>
                  <a:srgbClr val="ffffff"/>
                </a:solidFill>
                <a:latin typeface="Tahoma"/>
              </a:rPr>
              <a:t>(Zah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66ff"/>
                </a:solidFill>
                <a:latin typeface="Tahoma"/>
              </a:rPr>
              <a:t>tierartl. Unterschied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Form der De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c. articul. cr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c. spinos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6 –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berculum ventr.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lamina ventral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7 – caud: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Verbindung zur 1. Ripp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KEI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for. transv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dbbd71"/>
                </a:solidFill>
                <a:latin typeface="Arial"/>
              </a:rPr>
              <a:t>Brustwirbel, </a:t>
            </a: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vertebrae</a:t>
            </a:r>
            <a:r>
              <a:rPr b="0" lang="hu-HU" sz="32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thoracic</a:t>
            </a:r>
            <a:r>
              <a:rPr b="0" lang="hu-HU" sz="3200" spc="-1" strike="noStrike">
                <a:solidFill>
                  <a:srgbClr val="dbbd71"/>
                </a:solidFill>
                <a:latin typeface="Arial"/>
              </a:rPr>
              <a:t>ae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Verbindung zu den Rippe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200"/>
            </a:b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kleine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roc. transv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am Körpe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fovea costalis cran. + caud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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Rippenkop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a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c. transv.: fovea costalis proc. transv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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Rippenhöck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e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c. spinos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dbbd71"/>
                </a:solidFill>
                <a:latin typeface="Arial"/>
              </a:rPr>
              <a:t>Lendenwirbel, </a:t>
            </a: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vertebrae</a:t>
            </a:r>
            <a:r>
              <a:rPr b="0" lang="hu-HU" sz="3200" spc="-1" strike="noStrike">
                <a:solidFill>
                  <a:srgbClr val="dbbd71"/>
                </a:solidFill>
                <a:latin typeface="Arial"/>
              </a:rPr>
              <a:t> lumbales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grosse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c. transvers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cran.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Proc. mammillaris (Proc. mammillo-articulari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66ff"/>
                </a:solidFill>
                <a:latin typeface="Tahoma"/>
              </a:rPr>
              <a:t>tierartl. Diff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Richtung d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c. transv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c. spinosus: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Höhenverhältn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Proc. accessorius – caudodo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dbbd71"/>
                </a:solidFill>
                <a:latin typeface="Arial"/>
              </a:rPr>
              <a:t>Kreuzwirbel, vertebrae sacrales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1600200"/>
            <a:ext cx="84582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Verschmelzung: Os sacr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c. transv.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 (S1+2)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 ossis sacr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ies auricularis –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Becke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66ff"/>
                </a:solidFill>
                <a:latin typeface="Tahoma"/>
                <a:ea typeface="Arial"/>
              </a:rPr>
              <a:t>tierartl. Diff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  <a:ea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: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  <a:ea typeface="Arial"/>
              </a:rPr>
              <a:t>Stellung der Flüge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,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  <a:ea typeface="Arial"/>
              </a:rPr>
              <a:t>Form des Knochen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,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  <a:ea typeface="Arial"/>
              </a:rPr>
              <a:t>Richtung der Fac. auriculari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,</a:t>
            </a:r>
            <a:r>
              <a:rPr b="0" lang="hu-HU" sz="2800" spc="-1" strike="noStrike">
                <a:solidFill>
                  <a:srgbClr val="3366ff"/>
                </a:solidFill>
                <a:latin typeface="Tahoma"/>
                <a:ea typeface="Arial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  <a:ea typeface="Arial"/>
              </a:rPr>
              <a:t>Verschmelzung d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  <a:ea typeface="Arial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rocc. spinosi + articul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  <a:ea typeface="Arial"/>
              </a:rPr>
              <a:t>a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dbbd71"/>
                </a:solidFill>
                <a:latin typeface="Tahoma"/>
              </a:rPr>
              <a:t>Schwanzwirbel, vertebrae coccygeae/caud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Verkümmerung der Fort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240" y="76212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Rippe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rox.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Kopf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capu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0" lang="en-US" sz="3200" spc="-1" strike="noStrike">
                <a:solidFill>
                  <a:srgbClr val="ffffff"/>
                </a:solidFill>
                <a:latin typeface="Wingdings 3"/>
                <a:ea typeface="Wingdings 3"/>
              </a:rPr>
              <a:t>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Wirbelkörp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Ha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collu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Höcke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tuberculu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0" lang="en-US" sz="3200" spc="-1" strike="noStrike">
                <a:solidFill>
                  <a:srgbClr val="ffffff"/>
                </a:solidFill>
                <a:latin typeface="Wingdings 3"/>
                <a:ea typeface="Wingdings 3"/>
              </a:rPr>
              <a:t>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c. transvers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caud. gerichte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!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R/L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Sulcus muscularis (craniolat.: Erweiterung des Brustkorbes während der Einatmung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Sulcus costae (Gefässe + Nerv: caudomed.,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     geschütz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Brustbein (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rnum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an.: 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ubri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Körpe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i="1" lang="hu-HU" sz="32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orpu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ud.: 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c. xiphoideus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 (Schaufelknorpe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66ff"/>
                </a:solidFill>
                <a:latin typeface="Tahoma"/>
              </a:rPr>
              <a:t>tierartliche Unterschiede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For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Eq: crista ventralis sterni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0T18:49:59Z</dcterms:created>
  <dc:creator>bgerics</dc:creator>
  <dc:description/>
  <dc:language>en-US</dc:language>
  <cp:lastModifiedBy>Gerics Balázs</cp:lastModifiedBy>
  <dcterms:modified xsi:type="dcterms:W3CDTF">2009-09-15T19:11:45Z</dcterms:modified>
  <cp:revision>10</cp:revision>
  <dc:subject/>
  <dc:title>Vertebrae</dc:title>
</cp:coreProperties>
</file>