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03D-C27A-4BB5-981B-332B8008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92B-2EAB-402B-BA71-6ED3D73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BAF-902C-4788-A01F-1F5839C3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B0B-E057-44D1-B089-DA71163B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DBD-AFE9-42B8-93A5-0F8611E3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8A5-D389-43C6-9E4C-F3A46721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46E9-9267-4F83-87F6-6D317031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FCF-4D5A-4F40-A8EE-444F65C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364D-5510-403A-9E2E-84A97D7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31F-AEAD-47C7-85ED-CE901FFE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5FE1-7968-4CA2-BF55-6236A43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AD0-E525-4346-9140-19724C6A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FEC-F812-4CBF-845E-4C3050F9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AC45-F93D-4A22-9FEE-724C671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CA9-D69A-486D-9712-6BCB274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480-8F56-49C2-8F63-A16759CE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6A9-C423-4BA6-88E0-91FE29F1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196-3CC4-46E4-8D7C-6912796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1BB-BDD5-4558-BDCB-90A15A52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320-FA7C-470B-BEB0-6572041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253-E1F0-40F6-8D17-463C5DCA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390-BD07-48DA-8E24-53D7D09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5B3-EFB3-4BDA-9E7E-7D383E5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D0B-C992-4956-9245-11127E7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78CF-4C6C-4237-9DCC-D4C526FFC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10F-289E-4511-9D5C-D25F19AA08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ar – carnivora (Fleischfress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ca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canis familiari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Hun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fe – felis catus (Kat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Un – ungulates (Huftie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eq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equus caballu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Pfer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r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- ruminantia (Wiederkäu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s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sus scrofa domestica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Schwei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in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Kehlga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su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Zungenbe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2733840" cy="62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950000" y="4800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 parot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arotis –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pa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ot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s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ret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410440" cy="45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Richtun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066680"/>
          <a:ext cx="8842320" cy="5665680"/>
        </p:xfrm>
        <a:graphic>
          <a:graphicData uri="http://schemas.openxmlformats.org/drawingml/2006/table">
            <a:tbl>
              <a:tblPr/>
              <a:tblGrid>
                <a:gridCol w="3162240"/>
                <a:gridCol w="568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Richtung z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vent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cken (dorsum) / Bauch (vent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anial / caud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pf (cranium) / Schwanz (caud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l / lat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te / „Ausse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ostral, apical, 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üsselscheibe (Rostrum), (Nasen)Spitze (Apex), Mund / Maul (O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nti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apical, </a:t>
                      </a: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b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ntgegengesätzte Richt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ximal / dis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umeist an den Gliedmass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palmar (VE), plantar (H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cken / Handfläche, Soh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5120" cy="587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0880" y="101520"/>
            <a:ext cx="8305920" cy="675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304560"/>
            <a:ext cx="5334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/C1 (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p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ra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,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 (dor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Widerri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na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e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us + Ul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ante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(Mc 3 +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45276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7760" y="1599840"/>
            <a:ext cx="6095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3 –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uptmittelfussknoc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2(med) + 4(lat) –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Griffelb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I., os compedal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ssel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medii, II., os coronal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ron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dist., III., os ungular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uf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782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304920"/>
            <a:ext cx="5257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cox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ischiadic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cha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ulatio genus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. patellaris + Reg. popli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 + Fibula (Reg. crur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sus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aneus +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nde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Tendo calcaneus communis (Achi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tarsus (3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med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91960" y="380880"/>
            <a:ext cx="3341880" cy="616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0000" y="228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rontalis, parietalis, occipitalis, temporalis, auricularis, orali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sset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ch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sup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nd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nf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b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alpebr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feri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abialis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rticulation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mpo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949320"/>
            <a:ext cx="4776840" cy="59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19:05:10Z</dcterms:created>
  <dc:creator>bgerics</dc:creator>
  <dc:description/>
  <dc:language>en-US</dc:language>
  <cp:lastModifiedBy>Gerics Balázs</cp:lastModifiedBy>
  <dcterms:modified xsi:type="dcterms:W3CDTF">2009-09-14T06:31:20Z</dcterms:modified>
  <cp:revision>16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