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36F-7B4F-48D4-87D5-3ED7E427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ED9-8F66-472B-809A-98FD5963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D95-077D-4726-8B06-3B89A6E9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EDE-471C-4140-8D08-7503FF08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1A49-E806-4662-BE2F-9CCA4FDF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4BDE-CBBD-444A-9D50-824F4D68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F159-1AE9-43CC-9A05-613EBD9F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69BE-0EF7-41E2-82F3-8BFCBBC9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4494-BA40-45FA-B4C4-2DB3C6AC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7848-F078-4D64-AFE5-0EE87921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8DC0-92C1-4253-A1F2-8234654A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E9C-3905-4CBE-94BA-BF48DACC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88D0-B391-4886-877A-A4C08360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338D-EF5D-4EDB-9B25-9B068D4B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19EB-767D-451B-A983-ED27AA7E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A973-3860-4029-8693-B638C909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5305-3B43-4724-844A-6D4030B5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2AE-4959-47B1-BA5B-35C8F19F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E07-56F2-4D28-8D10-0F2A10F6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21D-1A62-4EC3-AAFE-1B3DB62E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ABA-EB23-4F27-BC01-91BFF3A7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A87-06F5-4518-8D51-BFA47F50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5B5-D45E-49E5-A9DD-616EE3A9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2A8-ECAD-440D-8EC3-B72836F2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A2D7-E0B8-4E58-9D11-A3A864A43A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0F9D-239F-44B9-A136-1827C71E1DB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Knochen der Vordergliedmas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Scap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umer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Radius / Ul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arpalkno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etakarpalkno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Zehenglie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+ Sesambe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Verdana"/>
              </a:rPr>
              <a:t>allgemein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3 Phalangen / Ze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+  2 proximale Sesambeine / Ze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+  1 distales Sesambein / Ze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Verdana"/>
              </a:rPr>
              <a:t>Numerierung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(Zehen, Gefässe, Nerven)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cc66"/>
                </a:solidFill>
                <a:latin typeface="Verdana"/>
              </a:rPr>
              <a:t>med → l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Verdana"/>
              </a:rPr>
              <a:t>N.B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Ordnungszahl + Anzahl der Zehe(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≠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Ordnungszahl + Anzahl der Phala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≠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Ordnungszahl + Anzahl der Metakarpalknoch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673200" y="49356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Vordergliedmas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907920"/>
          <a:ext cx="8686800" cy="2406960"/>
        </p:xfrm>
        <a:graphic>
          <a:graphicData uri="http://schemas.openxmlformats.org/drawingml/2006/table">
            <a:tbl>
              <a:tblPr/>
              <a:tblGrid>
                <a:gridCol w="2808000"/>
                <a:gridCol w="2981520"/>
                <a:gridCol w="2897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zahl / Ordnungszah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fe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e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/ 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(5) / 2.-5.</a:t>
                      </a:r>
                      <a:br>
                        <a:rPr sz="2800"/>
                      </a:b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  (+1.?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/ 2.-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/ 1.-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24000" y="3573360"/>
          <a:ext cx="8638560" cy="2973600"/>
        </p:xfrm>
        <a:graphic>
          <a:graphicData uri="http://schemas.openxmlformats.org/drawingml/2006/table">
            <a:tbl>
              <a:tblPr/>
              <a:tblGrid>
                <a:gridCol w="2759400"/>
                <a:gridCol w="2999520"/>
                <a:gridCol w="2879640"/>
              </a:tblGrid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zahl / Ordnungszah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dk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we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e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/ 2.-5. Haupt: 3.+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/ 2.-5. Haupt: 3.+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/ 3.-5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3.+4.verschmolze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/ 2.-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3120" y="189000"/>
            <a:ext cx="8535960" cy="647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1280" y="260280"/>
            <a:ext cx="8964720" cy="636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155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Verdana"/>
              </a:rPr>
              <a:t>Pf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c 3 (Hauptmittelfussknochen)</a:t>
            </a:r>
            <a:br>
              <a:rPr sz="3200"/>
            </a:b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+ Mc 2, Mc 4 = Griffelbe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0000"/>
                </a:solidFill>
                <a:latin typeface="Verdana"/>
              </a:rPr>
              <a:t>+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3200" spc="-1" strike="noStrike">
                <a:solidFill>
                  <a:srgbClr val="cc0000"/>
                </a:solidFill>
                <a:latin typeface="Verdana"/>
              </a:rPr>
              <a:t>2 prox. Sesambe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Art. metacarpophalangea, Fesselgele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Phalanx prox. (Os compedale, P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Art. interphalangea prox., Krongele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Phalanx media (Os coronale, P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0000"/>
                </a:solidFill>
                <a:latin typeface="Verdana"/>
              </a:rPr>
              <a:t>+ 1 dist. Sesambein </a:t>
            </a:r>
            <a:br>
              <a:rPr sz="3200"/>
            </a:br>
            <a:r>
              <a:rPr b="0" lang="hu-HU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Art. interphalangea dist., Hufgele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Phalanx dist. (Os ungulare, P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s ungulare, P3, Phalanx distalis, Hufb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roc. palmaris lat. + med. (prox + dist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roc. extensori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acies solearis, Foramen sole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Planum cutane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Linea semiluna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acies flexo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acies parietali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ed &gt; lat, R/L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ulcus parietalis lat. + m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acies articular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s coronale, P2, Phalanx media, Kronb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basis: prox., caput: di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roc. extensorius (dors., prox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Tuberositas flexoria (palm., prox.)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(=Kronbeinleh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distales Sesambei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(Strahlbein, Os naviculare) </a:t>
            </a:r>
            <a:br>
              <a:rPr sz="2800"/>
            </a:b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acies flexoria + articula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argo prox. + di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s compedale, P1, Phalanx prox., Fesselb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basis: prox., caput: di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Trigonum phalangis prox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(palmar,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pitze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→ dist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2 Ossa sesamoidea pr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(Gleichbe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acies articularis, flexoria + inteross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pitze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→ prox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8:16:43Z</dcterms:created>
  <dc:creator>Gerics Balázs</dc:creator>
  <dc:description/>
  <dc:language>en-US</dc:language>
  <cp:lastModifiedBy>Gerics Balázs</cp:lastModifiedBy>
  <dcterms:modified xsi:type="dcterms:W3CDTF">2009-09-14T06:50:04Z</dcterms:modified>
  <cp:revision>10</cp:revision>
  <dc:subject/>
  <dc:title>Bones of the forelimb</dc:title>
</cp:coreProperties>
</file>