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78C9-1A46-4EB8-8E6D-D5AAA5E5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2625-51B5-4305-ABDE-384BD97C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6601-D021-4A6D-AB87-20BD1E54F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21F9-F5FA-4285-B46F-D97420AD2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96AD-56EA-4AD0-9F2F-4A41B4AEE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6BDF-58A6-49C1-92D6-ED6FEA23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B64A-89E5-48C6-8E92-0106EA1E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9E84-67BC-4FD1-B576-121658BC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9159-1BF5-433A-B45B-543E2DE1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DE57E-4066-48B7-8AB3-C3050517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A095-DC6D-4B75-A516-873DED2D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43C3-189E-485E-9B05-86A65C12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9C57-6763-402E-8848-F44474E0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B914-AD82-42E9-A585-361F121E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67E3-5DFE-456A-9BE7-97306653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55B1-0608-4B2D-98F3-AFFA087CC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5450-A39E-4A2C-9703-3645C0AFD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2056-29E9-4B25-B05A-8D7CB981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82D6-3275-43C8-ADAA-39E48574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C07C-C899-43B3-94F3-F7271785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DC0A-BC22-4AAA-967A-C16D38D0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ED76-217C-4C85-8500-5427726D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590F-CAFD-4113-806F-C82D3E84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A479-AEE4-4FDA-80C5-6B020FEC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F1F0-E4D1-4F71-9620-DF50D5752AB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DE0B-051A-4C0C-BD5B-30363C31A75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6868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Beckengürtel = 2x Hüftbein, Os coxa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Hüftbein = Os ilium (Darmbein) + Os pubis (Schambein) + Os ischii (Sitzbein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eaeaea"/>
                </a:solidFill>
                <a:latin typeface="Verdana"/>
              </a:rPr>
              <a:t>Tierartl. Diff.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Allg. Form, Beckenbod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Crista iliaca (Ca: konvex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Richtung der Ala iliaca / Facies auriculari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Tuber ischiadicum (Ru 3x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Acetabulum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(Ru: Facies lunata mit Pars major + minor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cc"/>
                </a:solidFill>
                <a:latin typeface="Arial"/>
              </a:rPr>
              <a:t>Femur, Os femoris, Oberschenkelbein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936360"/>
            <a:ext cx="8785080" cy="57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dist., lat.: </a:t>
            </a:r>
            <a:br>
              <a:rPr sz="2800"/>
            </a:b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Fossa extensoria (cran.), Fossa m. poplitei (caud.)</a:t>
            </a:r>
            <a:br>
              <a:rPr sz="2400"/>
            </a:b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eaeaea"/>
                </a:solidFill>
                <a:latin typeface="Verdana"/>
              </a:rPr>
              <a:t>Tierartl. Diff., R/L?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Trochanter tertius (nur Eq, lat.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Trochanter majo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Eq: Pars cran. + Pars caud. (höher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Crista intertrochanterica, Fossa trochanterica (caud.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Tuberculum trochleae ossis femori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eaeaea"/>
                </a:solidFill>
                <a:latin typeface="Verdana"/>
              </a:rPr>
              <a:t>Eq (+Ru): med., cran., Patellarschlaufe: „Stehvermögen”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Facies articularis </a:t>
            </a:r>
            <a:r>
              <a:rPr b="0" lang="hu-HU" sz="2400" spc="-1" strike="noStrike">
                <a:solidFill>
                  <a:srgbClr val="eec85e"/>
                </a:solidFill>
                <a:latin typeface="Verdana"/>
              </a:rPr>
              <a:t>sesamoidea</a:t>
            </a: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 (Ca, caud.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Trochlea ossis femoris – cra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cc"/>
                </a:solidFill>
                <a:latin typeface="Arial"/>
              </a:rPr>
              <a:t>Kniescheibe, Patell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Basis – prox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Apex – dis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Proc. cartilagineus (Eq, bo): med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cc"/>
                </a:solidFill>
                <a:latin typeface="Arial"/>
              </a:rPr>
              <a:t>Schienbein, Tib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77920" y="1052640"/>
            <a:ext cx="86868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prox.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Condylus lat. + Facies articularis fibularis / Proc. (Ru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Eminentia intercondylaris = 2x Tuberculum intercond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Area intercond. cran. (2x), centralis, caud. </a:t>
            </a:r>
            <a:br>
              <a:rPr sz="2400"/>
            </a:b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Ansatzstellen für Menisken + Kreuzbänd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Tuberositas tibiae (CRAN.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Sulcus extensorius </a:t>
            </a:r>
            <a:br>
              <a:rPr sz="2400"/>
            </a:b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Tuberositas tibiae – Condylus LAT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Crista tibiae: CRAN., prox.: lat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dist.: Cochlea tibiae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Ru: Os malleolare lat. („Fibula”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cc"/>
                </a:solidFill>
                <a:latin typeface="Arial"/>
              </a:rPr>
              <a:t>Sprunggelenk, Tarsu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8964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krurale + intertarsale + metatarsale Reih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Calcaneus, Fersenbein</a:t>
            </a:r>
            <a:br>
              <a:rPr sz="2800"/>
            </a:b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Tuber calcanei (LAT), Proc. coracoideus, </a:t>
            </a: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Sustentaculum </a:t>
            </a:r>
            <a:r>
              <a:rPr b="0" i="1" lang="hu-HU" sz="2400" spc="-1" strike="noStrike" u="sng">
                <a:solidFill>
                  <a:srgbClr val="eaeaea"/>
                </a:solidFill>
                <a:uFillTx/>
                <a:latin typeface="Verdana"/>
              </a:rPr>
              <a:t>tali</a:t>
            </a: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 (plantar, </a:t>
            </a:r>
            <a:r>
              <a:rPr b="0" lang="hu-HU" sz="2400" spc="-1" strike="noStrike">
                <a:solidFill>
                  <a:srgbClr val="eaeaea"/>
                </a:solidFill>
                <a:latin typeface="Verdana"/>
                <a:ea typeface="Arial"/>
              </a:rPr>
              <a:t>→</a:t>
            </a: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MED) </a:t>
            </a:r>
            <a:br>
              <a:rPr sz="2400"/>
            </a:b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(Sulcus tendinis m. flex. dig. lat.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Talus, Sprungbei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Caput, Collum, Corpus, Trochlea (Ru: prox. + dist.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Sinus tarsi </a:t>
            </a: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– zwischen Talus and Calcaneus</a:t>
            </a: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(Synovia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Canalis tarsi </a:t>
            </a: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– zwischen T3, T4 und Tc (Gefässe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4:43:35Z</dcterms:created>
  <dc:creator>Gerics Balázs</dc:creator>
  <dc:description/>
  <dc:language>en-US</dc:language>
  <cp:lastModifiedBy>Gerics Balázs</cp:lastModifiedBy>
  <dcterms:modified xsi:type="dcterms:W3CDTF">2009-09-28T08:21:07Z</dcterms:modified>
  <cp:revision>11</cp:revision>
  <dc:subject/>
  <dc:title>Slide 1</dc:title>
</cp:coreProperties>
</file>