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1F5-9A5E-4244-8BEC-0E86CDF1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A50-3EA7-47A8-A66C-7D7AA7D5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C9A-E299-4FB3-BB6D-4686C189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F0E-1263-443A-AA7D-409E1348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ACE-3FCA-416C-81B2-519E82D7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C1D-91F3-4E83-88E7-B1177A8D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856-CDEA-40D8-B6AB-E22EA7F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3E8D-DEDC-47CF-A479-1C23D910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F7D0-50E2-411D-9C74-C213ACCB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737-3C57-49B8-9AE0-2BA7CC26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F00C-867F-42F5-80B9-D0FE2EE2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CD4-98B0-42CC-A7A6-93AAACC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26FE-1410-44E8-BA07-D47FCBF2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AEA5-3858-4633-877B-54A6A23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9EE-5C77-461A-913E-E87BF08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38F-46E5-45A4-A3A4-9819560A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6F9-16E8-4905-947E-B3F4D262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95C-EDA1-4100-B7FC-3A3E7301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425-1BE8-433E-A39B-70D941F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E2D-4968-4527-906D-2EAFD9D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5B6-C64B-426A-92C4-C5AFE7B6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B4B-3810-4F15-B12A-0F29960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DBD-CC30-4169-A2B6-28DE610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8F7-78D8-4322-A3B7-1CCA045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0AB-E7D8-4114-B6EE-47DDCDC6DD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A85-67BE-4096-853A-B6EA359522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dbbd71"/>
                </a:solidFill>
                <a:latin typeface="Arial"/>
              </a:rPr>
              <a:t>Wirbel /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Vertebra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rp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tremitas cran.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vex) &amp; caud.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)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cus intervertebralis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IN Synovialgelen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og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rc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: 2x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iculus +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AL!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n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er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isura cran. + caud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amen interverteb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vertebrale laterale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ortsätz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cess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spinosus, transversus, artic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ma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laris (+cran. artic.), accessori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Halswirbel,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ertebrae cervical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eweglichke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rper star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vex +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elenkflächen sehr gr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c. transv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uberculum dors. + vent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or. transversarium? (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ur Halswirb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Halswirbel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, C1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1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las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ickbeweg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ssa la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roc. transv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lüg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a atlan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. articulari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. spinosu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uber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.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iefe Aushöhlung für d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dylus occipit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tral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usbuchtung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sa a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öcher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amina (</a:t>
            </a:r>
            <a:r>
              <a:rPr b="0" lang="hu-HU" sz="2800" spc="-1" strike="noStrike">
                <a:solidFill>
                  <a:srgbClr val="3366ff"/>
                </a:solidFill>
                <a:latin typeface="Tahoma"/>
              </a:rPr>
              <a:t>tierartliche Unterschie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alar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ssa a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vertebrale lat. (MED!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alis vertebr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transversariu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urchboh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Halswirbel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2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s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rehbeweg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.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usläuf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ns axis </a:t>
            </a: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(Zah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66ff"/>
                </a:solidFill>
                <a:latin typeface="Tahoma"/>
              </a:rPr>
              <a:t>tierartl. Unterschie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orm der D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. articul. cr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. spino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6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berculum ventr.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mina ventra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7 – caud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rbindung zur 1. Rip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Brustwirbel,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ertebrae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horacic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a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erbindung zu den Ripp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lein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c. transv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 Körp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vea costalis cran. + cau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ippenkop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transv.: fovea costalis proc. trans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ippenhö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spino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Lendenwirbel,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ertebrae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 lumbale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ross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transver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ran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oc. mammillaris (Proc. mammillo-articular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66ff"/>
                </a:solidFill>
                <a:latin typeface="Tahoma"/>
              </a:rPr>
              <a:t>tierartl. Diff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ichtung d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. spinosus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öhenverhält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roc. accessorius – caudod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Kreuzwirbel, vertebrae sacrale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6002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rschmelzung: Os sac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. transv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S1+2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ossis sac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es auricularis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eck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66ff"/>
                </a:solidFill>
                <a:latin typeface="Tahoma"/>
                <a:ea typeface="Arial"/>
              </a:rPr>
              <a:t>tierartl. Diff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Stellung der Flüg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Form des Knoche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Richtung der Fac. auricular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,</a:t>
            </a:r>
            <a:r>
              <a:rPr b="0" lang="hu-HU" sz="2800" spc="-1" strike="noStrike">
                <a:solidFill>
                  <a:srgbClr val="3366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Verschmelzung d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occ. spinosi + articu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bbd71"/>
                </a:solidFill>
                <a:latin typeface="Tahoma"/>
              </a:rPr>
              <a:t>Schwanzwirbel, vertebrae coccygeae/caud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rkümmerung der Fort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ipp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x.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op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p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irbelkör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öck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ubercu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transver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aud. gericht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/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ulcus muscularis (craniolat.: Erweiterung des Brustkorbes während der Einatmu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ulcus costae (Gefässe + Nerv: caudomed.,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   geschütz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rustbein (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num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n.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u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rp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rp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d.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xiphoideus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(Schaufelknorp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ff"/>
                </a:solidFill>
                <a:latin typeface="Tahoma"/>
              </a:rPr>
              <a:t>tierartliche Unterschiede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q: crista ventralis sterni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49:59Z</dcterms:created>
  <dc:creator>bgerics</dc:creator>
  <dc:description/>
  <dc:language>en-US</dc:language>
  <cp:lastModifiedBy>Gerics Balázs</cp:lastModifiedBy>
  <dcterms:modified xsi:type="dcterms:W3CDTF">2009-09-15T19:11:45Z</dcterms:modified>
  <cp:revision>10</cp:revision>
  <dc:subject/>
  <dc:title>Vertebrae</dc:title>
</cp:coreProperties>
</file>