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3CA-52E8-4304-B9A8-AE8E8359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295D-4AF9-4DB8-B49E-566D375B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605-8DD8-43CA-88AB-356B304E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E40-7E3E-47BE-821C-673BB0C6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87AE-373F-4A28-B188-CCDF798B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8245-058A-466E-8B24-075EF36E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E178-1E3D-4368-9951-0C8190A7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A919-E9A7-4F1B-AB12-2CB2B42B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C5A3-B184-4FAF-928A-474C2C63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4691-A413-40D5-89C8-88E4CF39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6184-45C8-41A6-B309-BFFF24B5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BF8-9059-470B-951A-FAEC69A6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51A5-364E-44AF-A7A2-FF50B21C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3714-05B0-428D-8FD9-D242A876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D25A-7E31-4F90-B938-B70C0639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86CC-296A-404D-A7B3-FF82A1E8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4A87-2DEB-4813-A374-30731EDA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1D9-D3EC-468D-903F-A2033816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C5F-B0E3-4D9F-95F0-7988BF5C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912-1FA8-46CF-88CD-9BB9C81D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C17-8D86-4E60-B3A1-D58C347E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F8C-0FF4-4898-A936-7E3F9D0D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20E-AE10-4F7B-AF81-0F5F4553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EF7-9ED4-47D2-B1F3-C9928998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13DA-3688-4F83-B7A6-7D5721D0A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C545-A2FC-4440-9F6D-A01D6B714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eec94"/>
                </a:solidFill>
                <a:latin typeface="Times New Roman"/>
              </a:rPr>
              <a:t>Schädel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. </a:t>
            </a:r>
            <a:r>
              <a:rPr b="1" i="1" lang="en-US" sz="4800" spc="-1" strike="noStrike">
                <a:solidFill>
                  <a:srgbClr val="feec94"/>
                </a:solidFill>
                <a:latin typeface="Times New Roman"/>
              </a:rPr>
              <a:t>Neuro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cranium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I. </a:t>
            </a:r>
            <a:r>
              <a:rPr b="1" i="1" lang="en-US" sz="4800" spc="-1" strike="noStrike">
                <a:solidFill>
                  <a:srgbClr val="feec94"/>
                </a:solidFill>
                <a:latin typeface="Times New Roman"/>
              </a:rPr>
              <a:t>Viscero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cranium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eec94"/>
                </a:solidFill>
                <a:latin typeface="Times New Roman"/>
              </a:rPr>
              <a:t>Schädel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ventral</a:t>
            </a:r>
            <a:r>
              <a:rPr b="1" lang="hu-HU" sz="2800" spc="-1" strike="noStrike">
                <a:solidFill>
                  <a:srgbClr val="feec94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eec94"/>
                </a:solidFill>
                <a:latin typeface="Times New Roman"/>
              </a:rPr>
              <a:t>Fläch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. mag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. nervi hypoglo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. jugulare (= for. lacerum abora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.: for. lacerum (ora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.:  incisura carotica (lat. + med.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. ov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.:     inc. spino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. alare caud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. retroarticul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. stylomastoide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I. Viscerocrani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tus nasi dors.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mina cribrosa (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ulbus olfactori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tus nasi medius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inus paranasales (eq – 1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ste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tus nasi ventr.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ynx (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ynx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che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tus nasi communis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(neben Septum nas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bit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ssa sacci lacrimalis (rostr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Nasenhöh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ssa glandulae lacrimalis (“lat.”,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ber innerhalb d. 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bit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ssa musculi obliqui ventr. (medioventr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vea trochlearis (mediodors., f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obliquus dors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, Sus: ligamentum orbit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rcus zygomati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Os temporale, proc. zygomati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Os zygomaticum, proc. tempora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Os frontale, proc. zygomati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a, Sus: Lig. orbit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fossa pterygopalatin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2781360"/>
          <a:ext cx="7251120" cy="2074320"/>
        </p:xfrm>
        <a:graphic>
          <a:graphicData uri="http://schemas.openxmlformats.org/drawingml/2006/table">
            <a:tbl>
              <a:tblPr/>
              <a:tblGrid>
                <a:gridCol w="3666240"/>
                <a:gridCol w="35848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. maxill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. infraorbit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. sphenopalatin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vum na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</a:t>
                      </a: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alatinum cau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</a:t>
                      </a: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alatinum maj</a:t>
                      </a: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124080" y="1981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aud.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rost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alatum durum (har</a:t>
            </a:r>
            <a:r>
              <a:rPr b="1" lang="hu-HU" sz="2800" spc="-1" strike="noStrike">
                <a:solidFill>
                  <a:srgbClr val="feec94"/>
                </a:solidFill>
                <a:latin typeface="Times New Roman"/>
              </a:rPr>
              <a:t>ter Gaumen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palatinum, lamina horizonta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lla, proc. palatin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incisivum, proc. palatin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go interalveolaris (= diaste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eveol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t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veolaria (= interradicular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str.: foramen interincisiva (Ca, Eq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ssura interincisiva (Ru, S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ndibul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.: fossa masseterica, rostr.: for. ment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.: fossa pterygoidea, caud.: for. mandibul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es lingualis / fac. labialis + fac. bucca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interspec. diff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go ventr. –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ulus mandibul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: tuberositas musculi sternomandibula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: proc. angularis (caudovetr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. Neurocrani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a cranii caudal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Times New Roman"/>
              </a:rPr>
              <a:t>Tentorium cerebelli osse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a cranii med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Times New Roman"/>
              </a:rPr>
              <a:t>Crista orbitosphenoida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a cranii rostral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ssa cranii caudalis</a:t>
            </a:r>
            <a:br>
              <a:rPr sz="4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nner</a:t>
            </a:r>
            <a:r>
              <a:rPr b="1" lang="hu-HU" sz="2400" spc="-1" strike="noStrike">
                <a:solidFill>
                  <a:srgbClr val="feec94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(</a:t>
            </a:r>
            <a:r>
              <a:rPr b="1" lang="hu-HU" sz="2400" spc="-1" strike="noStrike">
                <a:solidFill>
                  <a:srgbClr val="feec94"/>
                </a:solidFill>
                <a:latin typeface="Times New Roman"/>
              </a:rPr>
              <a:t>Gehirn-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) </a:t>
            </a:r>
            <a:r>
              <a:rPr b="1" lang="hu-HU" sz="2400" spc="-1" strike="noStrike">
                <a:solidFill>
                  <a:srgbClr val="feec94"/>
                </a:solidFill>
                <a:latin typeface="Times New Roman"/>
              </a:rPr>
              <a:t>Fläche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tr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 medullaris – sag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ulla oblongata (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Gehirn - Rückenm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 pontina – transvers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ns –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rüc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rs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 vermialis - sag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Wur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m Kleinhi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n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rium cerebelli osse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-60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ssa cranii med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.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ssa hypophysealis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lla turcic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lcus nervi opht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mici (med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lcus nervi maxillaris (lat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pina ossis sphenoida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ssa piriform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nes digitatae (imp. gyroru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str., medi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lcus chiasmatis (sulcus nervi optic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ssa cranii rostrali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ud.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rista orbitosphenoida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str.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amina cribros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Nasenhöh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x fossa ethmoidalis (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ulbus olfactorius, Riechkolb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. ethmoid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nes digitatae (imp. gyroru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ostrum (ossis sphen.), crista galli, crista sagittalis inte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eec94"/>
                </a:solidFill>
                <a:latin typeface="Times New Roman"/>
              </a:rPr>
              <a:t>Fossa pterygopalatina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dors. </a:t>
            </a:r>
            <a:r>
              <a:rPr b="1" lang="en-US" sz="2400" spc="-1" strike="noStrike">
                <a:solidFill>
                  <a:srgbClr val="feec94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ventr.</a:t>
            </a:r>
            <a:br>
              <a:rPr sz="2400"/>
            </a:br>
            <a:r>
              <a:rPr b="1" lang="hu-HU" sz="2400" spc="-1" strike="noStrike">
                <a:solidFill>
                  <a:srgbClr val="feec94"/>
                </a:solidFill>
                <a:latin typeface="Times New Roman"/>
              </a:rPr>
              <a:t>rostr. </a:t>
            </a:r>
            <a:r>
              <a:rPr b="1" lang="en-US" sz="2400" spc="-1" strike="noStrike">
                <a:solidFill>
                  <a:srgbClr val="feec94"/>
                </a:solidFill>
                <a:latin typeface="Wingdings"/>
                <a:ea typeface="Wingdings"/>
              </a:rPr>
              <a:t></a:t>
            </a:r>
            <a:r>
              <a:rPr b="1" lang="hu-HU" sz="2400" spc="-1" strike="noStrike">
                <a:solidFill>
                  <a:srgbClr val="feec94"/>
                </a:solidFill>
                <a:latin typeface="Times New Roman"/>
              </a:rPr>
              <a:t> caud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11280" y="1628640"/>
          <a:ext cx="6705360" cy="2286000"/>
        </p:xfrm>
        <a:graphic>
          <a:graphicData uri="http://schemas.openxmlformats.org/drawingml/2006/table">
            <a:tbl>
              <a:tblPr/>
              <a:tblGrid>
                <a:gridCol w="3276360"/>
                <a:gridCol w="3429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. ethmoid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. ethmoid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amen optic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lcus chiasmat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ssura orbital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lcus n. ophthalmic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0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amen rotundum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. alare rostr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lcus n. maxillaris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. alare caud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584360" y="3846600"/>
            <a:ext cx="573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84360" y="3618000"/>
            <a:ext cx="6111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680" y="4292640"/>
            <a:ext cx="451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u+ Sus: For. orbitorotund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q: For. alare parvum – dor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a: 2x For. ethmoid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temporale: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quama ossis temporale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(Schuppe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s petrosum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(Felsenbe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petrosum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s tympan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s petro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s masto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. muscularis (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dünne „Nadel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. styloideus (f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ür das Zungenbe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n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ch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Ca, S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enti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u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m Felsenbe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.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us acusticus extern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s mastoidea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lieg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t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stroventral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gerichtet si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.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cularis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. styloid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s petrosum, med. </a:t>
            </a:r>
            <a:r>
              <a:rPr b="1" lang="hu-HU" sz="3200" spc="-1" strike="noStrike">
                <a:solidFill>
                  <a:srgbClr val="feec94"/>
                </a:solidFill>
                <a:latin typeface="Times New Roman"/>
              </a:rPr>
              <a:t>Ansicht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us acusticus internu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atu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undus (4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Öffnung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strodors.: area n. facialis (introitus canalis n. VII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stroventr.: area cochle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udodors.: for. vestibulare d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udoventr.: for. vestibulare vent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ud., dors.: apertura externa aquaeductus vestibu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ud. ventr.: apertura externa canalic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 cochle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str., dors.: fovea ganglii semilunaris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v. ganglii nervi trigemi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0:58:50Z</dcterms:created>
  <dc:creator>Gerics Balázs</dc:creator>
  <dc:description/>
  <dc:language>en-US</dc:language>
  <cp:lastModifiedBy>Gerics Balázs</cp:lastModifiedBy>
  <dcterms:modified xsi:type="dcterms:W3CDTF">2009-10-12T09:28:17Z</dcterms:modified>
  <cp:revision>3</cp:revision>
  <dc:subject/>
  <dc:title>Schädel  I. Neurocranium II. Viscerocranium</dc:title>
</cp:coreProperties>
</file>