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23E-69C2-49F3-A9F4-67B696A3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04F-1306-48F0-B9F8-7DCC205B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E7F-7BA4-4DD2-87FA-AF4E3204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F12-22AA-44F0-B876-9CC219DA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186E-7B88-45AC-9792-6761B23E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D132-54E5-4126-81D5-42550BFC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4023-19F5-4746-AC63-C441A14A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9BDC-8815-4FD4-95FF-F443AD7F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4C38-9259-4165-A732-CCF38FB4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2CAC-3349-40B0-9BA1-CE77584C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C3DA-73F4-4E7A-8A16-90CF743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543-5567-4A4A-909C-9133721E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97DF-4242-48F4-8793-5BCEB013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6FDA-1EEA-4D97-B57A-7C29BAB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7654-6847-4809-9FB8-03801007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C924-150E-47AC-B679-6F8C89BF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069F-211D-4DCE-ACBA-CCD1109C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0B7-650D-4114-85CC-E64B6778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6ED-1767-40AE-9380-4E542E63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60D-B669-42D8-B66E-B37431E3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BEA-8E5D-451C-8C18-894F501D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EF4-9548-4CEB-9AE5-235331D8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33D-3ACD-46DE-A567-60854A9A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0EF-AE71-4795-A34D-63E61A69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5EC7-1887-4737-BBF5-08D7160418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DB51-73AD-453E-817E-76685821C7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kull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. 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Neuro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ranium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I. 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Viscero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ranium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kull, ventral su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. magn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. nervi hypoglos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. jugulare (= for. lacerum abora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.: for. lacerum (ora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.:  incisura carotica (lat. + med.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. ov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.:     inc. spinos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92120" indent="-1987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. alare caud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92120" indent="-1987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. retroarticu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92120" indent="-1987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. stylomastoide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I. Viscerocrani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tus nasi dors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mina cribrosa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lfactory bul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tus nasi medius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nus paranasales (eq – 1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tus nasi ventr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harynx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ryn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ch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tus nasi communis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 (next to septum nas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b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ssa sacci lacrimalis (rostr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sal cavit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ssa glandulae lacrimalis (“lat.”, but within the orbi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ssa musculi obliqui ventr. (medioventr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vea trochlearis (mediodors., for m. obliquus dors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, Sus: ligamentum orbit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mic Sans MS"/>
              </a:rPr>
              <a:t>Arcus zygomati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omic Sans MS"/>
              </a:rPr>
              <a:t>Os temporale, proc. zygomati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omic Sans MS"/>
              </a:rPr>
              <a:t>Os zygomaticum, proc. temporal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omic Sans MS"/>
              </a:rPr>
              <a:t>Os frontale, proc. zygomati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omic Sans MS"/>
              </a:rPr>
              <a:t>Ca, Sus: Lig. orbit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ssa pterygopalat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2514600"/>
          <a:ext cx="6781680" cy="1676520"/>
        </p:xfrm>
        <a:graphic>
          <a:graphicData uri="http://schemas.openxmlformats.org/drawingml/2006/table">
            <a:tbl>
              <a:tblPr/>
              <a:tblGrid>
                <a:gridCol w="3429000"/>
                <a:gridCol w="3352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. maxill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. infraorbi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. sphenopalati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vum n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palatinum cau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palatinum maj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124080" y="1981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d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ost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latum durum (hard palat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 palatinum, lamina horizontal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lla, proc. palatin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 incisivum, proc. palatin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go interalveolaris (= diastem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p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eveola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p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r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veolaria (= interradiculari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str.: foramen interincisiva (Ca, Eq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sura interincisiva (Ru, S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dibu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.: fossa masseterica, rostr.: for. ment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.: fossa pterygoidea, caud.: for. mandibula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ies lingualis / fac. labialis + fac. buccal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interspec. diff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go ventr. – sha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ulus mandibula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: tuberositas musculi sternomandibular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proc. angularis (caudovetr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. Neurocrani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ssa cranii caudal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omic Sans MS"/>
              </a:rPr>
              <a:t>Tentorium cerebelli osse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ssa cranii med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omic Sans MS"/>
              </a:rPr>
              <a:t>Crista orbitosphenoidal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ssa cranii rostral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ssa cranii caudali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ner (cerebellar) su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tral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essio medullaris – sagit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ulla oblongata (brain - spinal co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essio pontina – transve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ns – bri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rsal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essio vermialis - sagit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ebellar verm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ent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rium cerebelli osse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ssa cranii med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ssa hypophysealis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lla turcic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lcus nervi opht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ici (med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lcus nervi maxillaris (lat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pina ossis sphenoidal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ssa piriform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essiones digitatae (imp. gyroru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str., media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lcus chiasmatis (sulcus nervi optic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ssa cranii rostral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d.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rista orbitosphenoidal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str.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mina cribros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nasal c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x fossa ethmoidalis (olfactory bulb), for. ethmoid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essiones digitatae (imp. gyroru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ostrum (ossis sphen.), crista galli, crista sagittalis inter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rs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nt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1066680"/>
          <a:ext cx="6705720" cy="2286000"/>
        </p:xfrm>
        <a:graphic>
          <a:graphicData uri="http://schemas.openxmlformats.org/drawingml/2006/table">
            <a:tbl>
              <a:tblPr/>
              <a:tblGrid>
                <a:gridCol w="3276720"/>
                <a:gridCol w="3429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. ethmoid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. ethmoid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amen optic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lcus chiasma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ssura orbita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lcus n. ophthalmi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amen rotundum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. alare rostr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lcus n. maxillari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. alare caud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584360" y="3846600"/>
            <a:ext cx="573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84360" y="3618000"/>
            <a:ext cx="611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0520" y="3657600"/>
            <a:ext cx="468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+ Sus: For. orbitorotund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: For. alare parvum – dors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2x For. ethmoi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 temporal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ma ossis tempora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s petros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 petrosum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s tympanic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s petros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s mastoid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. muscularis (thin, needle-lik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. styloideus (for the hyoide bon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ot in Ca, S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ien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petrosal bon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.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us acusticus extern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s mastoidea situated later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stroventrally direct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. muscular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. styloide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 petrosum, med. asp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us acusticus intern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t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undus (4 opening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strodors.: area n. facialis (introitus canalis n. VII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stroventr.: area cochlea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dodors.: for. vestibulare do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doventr.: for. vestibulare vent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d., dors.: apertura externa aquaeductus vestibu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d. ventr.: apertura externa canalic</a:t>
            </a: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 cochlea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str., dors.: fovea ganglii semilunaris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v. ganglii nervi trigem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5:24:36Z</dcterms:created>
  <dc:creator>bgerics</dc:creator>
  <dc:description/>
  <dc:language>en-US</dc:language>
  <cp:lastModifiedBy>Gerics Balázs</cp:lastModifiedBy>
  <dcterms:modified xsi:type="dcterms:W3CDTF">2009-10-12T09:29:40Z</dcterms:modified>
  <cp:revision>17</cp:revision>
  <dc:subject/>
  <dc:title>Skull  I. Neurocranium II. Viscerocranium</dc:title>
</cp:coreProperties>
</file>