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DCC-4F5C-4BF9-8687-4FAAB950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8C1-B341-417E-8B6C-FC73398F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11D-ACC9-457E-AC67-3607D95D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E05-4138-4D74-A209-0F8BC4E5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B208-3655-463A-BF27-DB38BB43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64BD-D875-47FA-BC77-D39FC5B5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A990-F602-49D5-8AA4-3327D975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F734-2A69-44AE-89D2-B386F7EF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7DF4-C84B-4CE6-B7CA-81414C3F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3E0B-B190-421C-A494-33B4851C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AC84-11F7-469A-853F-E53C9743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989-E264-4D65-8490-75B3E775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AF01-C06D-45F3-86FF-14C9E300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19B7-BE7E-466A-A529-AF8C18A1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6F5E-AC6D-4B52-BB96-F3C44E93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BA15-6A2D-4900-B707-4E828B0C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0C98-F00B-45AE-9974-F7AFF899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561-7877-45B9-9BFE-AF9C860B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6E1-5934-4211-83A0-EEE97FA7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EFCA-6BC5-4F93-B80D-F5C20D7F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897-E820-4CAC-BB4B-67A3D783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12A-ED34-4768-9FE8-C11F4670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39F-4B94-4B64-BD48-3DD9DFF1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B1F-01D3-46C4-B9F5-F1B36744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5FEF-1E82-4E87-A6F3-3AC7C5FBAD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6584-3B97-4FF8-A1ED-6BD92162974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144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ar – carnivora (meat-eating anima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ca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– canis familiaris (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dog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fe – felis catus (c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Un – ungulates (hoofed anima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eq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– equus caballus (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horse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ru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- ruminantia (cattle, goat, shee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su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 – sus scrofa domestica (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  <a:ea typeface="Arial"/>
              </a:rPr>
              <a:t>pig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gi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ntalis (ch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andibu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in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dibu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 sub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oid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bone within toung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2733840" cy="62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950000" y="48002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 parotid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parotis –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pa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ot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ssa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retr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dibu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5410440" cy="452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228600" y="387360"/>
            <a:ext cx="8686800" cy="608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719360" y="2727360"/>
            <a:ext cx="5705280" cy="14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41004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2128680" y="0"/>
            <a:ext cx="5115240" cy="686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039680" y="9360"/>
            <a:ext cx="726624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609480" y="30240"/>
            <a:ext cx="7848720" cy="673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127080" y="1828800"/>
            <a:ext cx="8788320" cy="352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01680" y="1447920"/>
          <a:ext cx="8842320" cy="4843440"/>
        </p:xfrm>
        <a:graphic>
          <a:graphicData uri="http://schemas.openxmlformats.org/drawingml/2006/table">
            <a:tbl>
              <a:tblPr/>
              <a:tblGrid>
                <a:gridCol w="3162240"/>
                <a:gridCol w="568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wa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rsal / vent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k (dorsum) / belly (vent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anial / caud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ad (cranium) / tail (caud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al / late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dline / „outside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rostral, apical, o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rostrum, apex, os (mounth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</a:rPr>
                        <a:t>anti</a:t>
                      </a:r>
                      <a:r>
                        <a:rPr b="0" lang="hu-HU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apical, </a:t>
                      </a:r>
                      <a:r>
                        <a:rPr b="0" lang="hu-HU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</a:rPr>
                        <a:t>ab</a:t>
                      </a:r>
                      <a:r>
                        <a:rPr b="0" lang="hu-HU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o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opposite dire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ximal / dis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d mainly on limbs (extremitie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rsal / palmar (FL), plantar (H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k / palm, so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of the hand or foot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385120" cy="587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380880" y="101520"/>
            <a:ext cx="8305920" cy="675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9520" y="304560"/>
            <a:ext cx="5032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las/C1 (+w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pu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o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pra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pularis,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in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pularis (dors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 withe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ina scapul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mer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o brach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us + Ul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o antebrach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pu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(set of b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carpus (Mc 3 +2/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45276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7760" y="1599840"/>
            <a:ext cx="60958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pus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(set of b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carp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 3 – can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b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 2(med) + 4(lat) – splint b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lanx prox., I., os compedale, fetlo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lanx medii, II., os coronale, past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lanx dist., III., os ungulare, coff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47824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5840" y="304920"/>
            <a:ext cx="50324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ber cox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ber ischiadic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m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ochan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culatio genus (stif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. patellaris + Reg. poplit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 + Fibula (Reg. crur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rsus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(set of b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caneus + others – Tendo calcaneus communis (Achill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tarsus (3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2/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lanx prox., med.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91960" y="380880"/>
            <a:ext cx="3341880" cy="616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124080" y="0"/>
            <a:ext cx="55389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gi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950000" y="2282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frontalis, parietalis, occipitalis, temporalis, auricularis, oralis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assete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ntalis (ch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sup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and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inf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bital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palpebra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inferi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labialis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sup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andibu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articulationi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mpor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dibul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949320"/>
            <a:ext cx="4776840" cy="590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19:05:10Z</dcterms:created>
  <dc:creator>bgerics</dc:creator>
  <dc:description/>
  <dc:language>en-US</dc:language>
  <cp:lastModifiedBy>Gerics Balázs</cp:lastModifiedBy>
  <dcterms:modified xsi:type="dcterms:W3CDTF">2009-09-14T06:25:56Z</dcterms:modified>
  <cp:revision>13</cp:revision>
  <dc:subject/>
  <dc:title>1. 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