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94A-53E2-4CA0-8866-672B920C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D8B-4735-48F6-9FC4-09C21D77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333-011F-4DB8-9E45-92693556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031-C20A-4004-AFE6-33D3ED8F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4695-5D01-4D69-9657-5160608A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28E8-57B9-4070-A626-3CDFC518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BC91-E2C7-4FD8-BCB1-9EA37B2D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63F9-049A-42DD-A4CE-BA249D88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FBCC-05C4-4B9A-82E1-16A6FC71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FBAB-7384-4E35-8293-FA01DFCB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76D8-2F79-4310-AEF8-B8849E4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6C9-7ABC-40D3-8321-501726B9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35BF-5658-4600-8077-E43688F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378-3D4D-441E-B9D2-E3867BF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7562-8601-4331-A9D6-2E4BFFB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B31-771D-4916-AD6D-6C76C648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C640-A422-46ED-913F-12A1517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973-5E93-475E-8C96-1F0F914D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028-6ED4-4772-8E8E-AFDCD690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56F-21D6-41D9-9656-BE930DC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23B-9AA0-4416-9F90-01FD563D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3F8-CB55-493C-9B2D-975B7180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5E9-38C9-4CBB-A892-4E3B9AF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F22-5FE4-4AB6-924D-C87004E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7BE-AA3D-4AEE-B69C-A8D2C67DF8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F2D6-D658-4AC8-A778-5723AA876C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Vertebra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 (c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rp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itas cran. (convex) &amp; caud. (concave)  discus intervertebralis, NO synovial joints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rc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: 2x pediculus + lam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AL! – ori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isura cran. + caud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amen intervertebr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or. vertebrale latera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se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cess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. spinosus, transversus, artic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. mamillaris (+cran. artic.), accessori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cervical vertebra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y very convex + conc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ular surfaces very l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c. transv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uberculum dors. + vent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or. transversarium? (cervical on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cervical vertebrae, C1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1 – atlas, nodding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ssa la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roc. transv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ng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a atlan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no proc. articularis, proc. spinosu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uber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.: deep excavation for condylus occipit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tral: excavation: fossa a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amina (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interspec. diff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alar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ssa a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vertebrale lat. (MED!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alis vertebr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. transversariu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forates proc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cervical vertebra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2 – axis, rotatory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. projection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ns ax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nterspec. diff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hape of d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. articul. cr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. spino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6 – tuberculum ventr.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amina ventra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7 – caud: attachment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b, NO for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horacic vertebra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achment of ribs (small proc. transv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n body: fovea costalis cran. + cau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d of r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n proc. transv.: fovea costalis proc. trans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bercle of r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oc. spino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mbar vertebrae: large proc. transver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interspec. diff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direction of proc. trans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. spinosus: ratio (hig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cral vertebrae: fused to form the sa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. transv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la ossis sac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facies auricularis – hip b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interspec. diff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position of wing, shape of bone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direction of auricular surfa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sion of procc. spinosi + articu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dal vertebrae: reduction of proc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bs prox.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d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ap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ody of vertebr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k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bercle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ubercu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c. transver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ed caudally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/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ulcus muscularis (craniolat.: expand thorax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uring respir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ulcus costae (vessels + nerv: caudomed.,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   prot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rn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an.: manub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y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rp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d.: proc. xiphoid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interspec. diff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ha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q: crista ventralis sterni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49:59Z</dcterms:created>
  <dc:creator>bgerics</dc:creator>
  <dc:description/>
  <dc:language>en-US</dc:language>
  <cp:lastModifiedBy>Gerics Balázs</cp:lastModifiedBy>
  <dcterms:modified xsi:type="dcterms:W3CDTF">2008-09-05T08:35:24Z</dcterms:modified>
  <cp:revision>4</cp:revision>
  <dc:subject/>
  <dc:title>Vertebrae</dc:title>
</cp:coreProperties>
</file>