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5671-66EA-48B1-B505-5E4A80B4B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2E8C-8194-4DEE-83CD-2FE72C49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D903-40D8-4A03-8017-67D9B08B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4BA0-94E3-4CF8-A940-500B76C19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4E0C-27A0-4343-9C8A-9BDBC735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EB14-1732-45BD-BEF2-9EC605ED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BFA3-052D-4905-BC8A-D0992328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C24E-2E2A-4633-94A9-910341C3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46A4-63E1-4261-93E4-24BAB00C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CE93-95C7-4A04-AEA9-FB94E424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3725-8CE7-4516-9930-1642FE40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9D93-9409-42E0-BD7C-3ACD7CA0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E291-00DB-4026-8405-4AEC46B0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8CEF-5AA8-48E4-B3E7-7FEC7AB6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F8FC-9A04-447F-8CF1-EBEC6A19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1322-A57C-4810-AAFC-F36D833F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C0F1-0EC5-4F45-8C30-A350FE6EC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FE58-256E-423B-BF86-90D9E8A5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72D9-CB3C-4254-BD55-F2C326B9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8EBB-DE35-4DEE-B797-4B70D584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A19F-2124-4652-BAB6-79CCFCA8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FF49-7C26-4D17-8944-F6C3229C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455E-E773-41B1-80F0-70DC1492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4419-D41D-46D8-82E7-87E3E804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6F06-2EEA-42CA-9E3C-C125BBA6A6E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86A5-BAC0-46E7-B8E5-C920ABB0203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Bones of the forelimb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Scapul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Humer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Radius / Uln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Carpal bon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Metacarpal bon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Phalang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+ sesamoid bo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Verdana"/>
              </a:rPr>
              <a:t>usually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3 phalanges / digi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+  2 proximal sesamoid bones / digi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+  1 distal sesamoid bone / digi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Verdana"/>
              </a:rPr>
              <a:t>numbering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 (digits, vessels, nerves): </a:t>
            </a:r>
            <a:r>
              <a:rPr b="0" lang="hu-HU" sz="2800" spc="-1" strike="noStrike">
                <a:solidFill>
                  <a:srgbClr val="ffcc66"/>
                </a:solidFill>
                <a:latin typeface="Verdana"/>
              </a:rPr>
              <a:t>med → l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Verdana"/>
              </a:rPr>
              <a:t>N.B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number of digits 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(1st, 2nd, 3rd, 4th and 5th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≠ 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number of phalanges 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(1st, 2nd and 3rd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≠ 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number of metacarpals 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(1st, 2nd, 3rd, 4th and 5th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73200" y="49356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Forelim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896472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03120" y="189000"/>
            <a:ext cx="853596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1280" y="260280"/>
            <a:ext cx="8964720" cy="63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Verdana"/>
              </a:rPr>
              <a:t>hor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Mc 3 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(+ Mc 2, Mc 4)</a:t>
            </a: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cc0000"/>
                </a:solidFill>
                <a:latin typeface="Verdana"/>
              </a:rPr>
              <a:t>+</a:t>
            </a: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3200" spc="-1" strike="noStrike">
                <a:solidFill>
                  <a:srgbClr val="cc0000"/>
                </a:solidFill>
                <a:latin typeface="Verdana"/>
              </a:rPr>
              <a:t>2 prox. sesam. bon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hu-HU" sz="3200" spc="-1" strike="noStrike">
                <a:solidFill>
                  <a:srgbClr val="ffcc66"/>
                </a:solidFill>
                <a:latin typeface="Verdana"/>
              </a:rPr>
              <a:t>Art. metacarpophalangea, fetlock joi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Phalanx prox. (Os compedale, P1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hu-HU" sz="3200" spc="-1" strike="noStrike">
                <a:solidFill>
                  <a:srgbClr val="ffcc66"/>
                </a:solidFill>
                <a:latin typeface="Verdana"/>
              </a:rPr>
              <a:t>Art. interphalangea prox., pastern joi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Phalanx media (Os coronale, P2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cc0000"/>
                </a:solidFill>
                <a:latin typeface="Verdana"/>
              </a:rPr>
              <a:t>+ 1 dist. sesamoid (navicular) bo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hu-HU" sz="3200" spc="-1" strike="noStrike">
                <a:solidFill>
                  <a:srgbClr val="ffcc66"/>
                </a:solidFill>
                <a:latin typeface="Verdana"/>
              </a:rPr>
              <a:t>Art. interphalangea dist., coffin joi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Phalanx dist. (Os ungulare, P3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8229600" cy="61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Os ungulare, P3, Phalanx distali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Proc. palmaris lat. + med. (prox + dist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Proc. extensori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Facies solearis, Foramen solea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Planum cutaneu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Linea semilunar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Facies flexor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Facies parietali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med &gt; lat, R/L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Sulcus parietalis lat. + me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Facies articular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Os coronale, P2, Phalanx med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basis: prox., caput: dis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Proc. extensorius (dors., prox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Tuberositas flexoria (palm., prox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Distal sesamoid (navicular) bo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Facies flexoria + articular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Margo prox. + dis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128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Os compedale, P1, Phalanx prox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basis: prox., caput: dis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Trigonum phalangis prox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(palmar, tip → dist.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2 Ossa sesamoidea prox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Facies articularis, flexoria + interosse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tip → prox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08:16:43Z</dcterms:created>
  <dc:creator>Gerics Balázs</dc:creator>
  <dc:description/>
  <dc:language>en-US</dc:language>
  <cp:lastModifiedBy>Gerics Balázs</cp:lastModifiedBy>
  <dcterms:modified xsi:type="dcterms:W3CDTF">2008-09-15T07:59:19Z</dcterms:modified>
  <cp:revision>6</cp:revision>
  <dc:subject/>
  <dc:title>Bones of the forelimb</dc:title>
</cp:coreProperties>
</file>